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9A5-EF8C-4D03-8E09-381AB219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585-D6E9-4C2D-A9D6-CDC58A14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1B9-A041-40DE-BE79-50DFF527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FEA-A737-4CB5-8124-81A9B017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17D-C6F5-42EF-9380-14AB0C1D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E7D-B870-43D9-901A-783EF4BA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42A-22A9-43A3-AA0A-2DBC2434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36B-5EE7-4F22-B750-5993740C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813-71B5-40A8-B513-EDCBFA2E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2A8-9DD5-473D-99C3-A1EE04C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E8B-8933-4C63-812A-375BC105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E62-0807-4E2A-A784-9514B6F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5056-835A-438E-AB72-ED75B861A39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Falcon development cos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/05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development cos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alcon is a class 2 devic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RD Cost is 17 % below Class 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Overall Cost is 15 % below Class 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Conclusion: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Adjustment ST tbd. according request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Significant reduction of development cost must include reduction of feature changes compared to Kestrel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HW Changes compared to Kestre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New HW Featur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3,2Mpix 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display with lager main and sub pan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2nd speaker and stereo sou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FM 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Involving Chang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antenna design, incl. BT antenn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position of IO connector and vib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ange of FPC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ange of PCB, incl. new layout and routing of BB and RF (Design and layout changes + DTC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F conducted and RF radiated behavior (incl. BT) will chan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Conclusion: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a0e66"/>
                </a:solidFill>
                <a:latin typeface="Minion"/>
              </a:rPr>
              <a:t>Falcon is at least a class II devic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SW Changes compared to Kestre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New SW Featur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Stereo Concept (ASP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M Radio also on outer display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ture Chang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river adaptations for 3,2 Mpix camera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river adaptations for new display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MMI changes for came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General: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Ongoing bug fixing in all areas (esp. after operator request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per Li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8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compared to Class 2 [€]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990720"/>
          <a:ext cx="8305560" cy="532080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383840"/>
                <a:gridCol w="1384200"/>
                <a:gridCol w="1384200"/>
                <a:gridCol w="138456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lc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131.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517.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87.5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265.5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.601.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las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470.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438.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069.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562.7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.540.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38.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9.4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81.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97.2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938.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1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compared to Class 2 [€]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990720"/>
          <a:ext cx="8305920" cy="532116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278000"/>
                <a:gridCol w="1368360"/>
                <a:gridCol w="1368360"/>
                <a:gridCol w="152244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C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erv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lc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.601.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86.9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664.9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.151.9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.753.8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las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.540.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43.5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890.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.433.7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.973.8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938.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56.6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25.1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81.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.219.9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ST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8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SWM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2T06:27:24Z</dcterms:modified>
  <cp:revision>139</cp:revision>
  <dc:subject/>
  <dc:title>PowerPoint 簡報</dc:title>
</cp:coreProperties>
</file>